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s try out the probl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604C-ED80-4F98-809F-0F5ED1E41F8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work in pairs on one of the 3 interactions handouts (perhaps several at a table) and discuss whether the questions are evaluative or interpre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ove on to see which help to make the thinking visible and which help to move students’ thinking forward (not an either or sit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20F-9582-4DDA-ACF1-9C93DD6CA3A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revisit the transcript to see if any of these types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C1C2-54E9-4456-A151-B3423BBB1E5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revisit transcript to look for any of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68A5-EFCE-49B4-BDE7-38BA99DC541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to generate some more question 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208C-462C-4010-AABA-5AAE8CBA1DC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A32-C9EA-4EC9-8341-FB167272E5D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00FE-377E-4688-80E9-D3CC8F44895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video 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AA59-7800-4C88-B145-AB6A9AC96309}" type="slidenum"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9FF-A8FD-49C1-9144-7102176D681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41911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D718-D7D6-452A-8172-13A51372B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4A8E-CF29-43D3-B718-F19F8E01F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C810-8124-48CE-A80E-3F6B4BAF6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B773-10EB-4CC2-A9C1-719EA0BEC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AEE7-A6D7-4CBF-A6AA-005D9F099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F32F-E544-4E32-9E05-B8D4564AF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0BF3-7FDC-4F4D-B27F-B3EB22771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E011-9C94-440D-B8F8-54FCC2E0A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79E3-75AB-4B62-B152-855392881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CCD5-D49D-405B-AE1F-1EAA7307B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B748-79C1-4FE6-847C-841F11430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5D2A-7B55-4F12-B564-4FAC2B62E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B05D-46F5-4472-847A-7C06F376E5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ecee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uqi-persimmon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585-346F-404A-91B9-91FB5768E9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040" y="31240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Questioning, listening and responding to promote students’ mathema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Cambria"/>
              </a:rPr>
              <a:t>Dr. Chris Suurt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8c93"/>
                </a:solidFill>
                <a:latin typeface="Cambria"/>
              </a:rPr>
              <a:t>University of Ott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8240" y="1406520"/>
            <a:ext cx="7396200" cy="4525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i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1905120"/>
            <a:ext cx="7121520" cy="4463280"/>
          </a:xfrm>
          <a:prstGeom prst="rect">
            <a:avLst/>
          </a:prstGeom>
          <a:solidFill>
            <a:srgbClr val="66ffff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Tug of war 1</a:t>
            </a:r>
            <a:r>
              <a:rPr b="0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: 4 frogs on one side had a tie with 5 fairy godmothers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Tug of war 2</a:t>
            </a:r>
            <a:r>
              <a:rPr b="0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: 1dragon had a tie with 2 fairy godmothers and 1 fro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Tug of war 3</a:t>
            </a:r>
            <a:r>
              <a:rPr b="0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: 1 dragon and 3 fairy godmothers on one side and 4 frogs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2c24"/>
                </a:solidFill>
                <a:latin typeface="Arial"/>
                <a:ea typeface="MS PGothic"/>
              </a:rPr>
              <a:t>Who would win the 3rd tug of w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eachers’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795168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8000"/>
          </a:bodyPr>
          <a:p>
            <a:pPr marL="37476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ine the questions in the transcript and consid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lead to evaluative listening and which lead to interpretive listening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help to make students’ mathematical thinking more visibl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help to move the students’ mathematical thinking forwar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A framework for examining ques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47560" y="1676520"/>
            <a:ext cx="6607080" cy="3657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fo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ng group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reviewing or summariz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students to explain their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alternate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ing to go fa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ilitating teacher observ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8600" y="240840"/>
            <a:ext cx="7556400" cy="1220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other framework for analyzing teacher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057400" y="1447920"/>
          <a:ext cx="6858000" cy="4116240"/>
        </p:xfrm>
        <a:graphic>
          <a:graphicData uri="http://schemas.openxmlformats.org/drawingml/2006/table">
            <a:tbl>
              <a:tblPr/>
              <a:tblGrid>
                <a:gridCol w="6618240"/>
                <a:gridCol w="239760"/>
              </a:tblGrid>
              <a:tr h="43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Gathering information, leading students through a 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Inserting termi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ploring math meanings or relation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bing, getting students to explain their thi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enerating 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Linking and appl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Extending thin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Orienting and focu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Establishing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5145120" y="6450120"/>
            <a:ext cx="36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aler &amp; Brodie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tinuing the dialogue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question do I ask nex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so easy a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the student(s) has just respo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well you (the teacher) l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be easily pr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s’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sight into their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minate ways that students understand concepts (different understandings and different con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xamples of ways of thinking to othe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But it is not just about teachers asking questions and students responding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ca9"/>
                </a:solidFill>
                <a:latin typeface="Arial"/>
              </a:rPr>
              <a:t>Moving from teacher to student interaction to student to student interaction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9" name="Content Placeholder 5" descr=""/>
          <p:cNvPicPr/>
          <p:nvPr/>
        </p:nvPicPr>
        <p:blipFill>
          <a:blip r:embed="rId1"/>
          <a:stretch/>
        </p:blipFill>
        <p:spPr>
          <a:xfrm>
            <a:off x="500040" y="1981080"/>
            <a:ext cx="7553520" cy="41450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4546440" y="224784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network of conversation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to student questio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42" name="Content Placeholder 5" descr=""/>
          <p:cNvPicPr/>
          <p:nvPr/>
        </p:nvPicPr>
        <p:blipFill>
          <a:blip r:embed="rId1"/>
          <a:stretch/>
        </p:blipFill>
        <p:spPr>
          <a:xfrm>
            <a:off x="500040" y="1981080"/>
            <a:ext cx="7553520" cy="4145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5105520" y="22096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network of conversation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3"/>
          <p:cNvCxnSpPr/>
          <p:nvPr/>
        </p:nvCxnSpPr>
        <p:spPr>
          <a:xfrm>
            <a:off x="1561680" y="4267080"/>
            <a:ext cx="546480" cy="7120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5" name="Straight Arrow Connector 7"/>
          <p:cNvCxnSpPr/>
          <p:nvPr/>
        </p:nvCxnSpPr>
        <p:spPr>
          <a:xfrm flipH="1">
            <a:off x="2273040" y="3200040"/>
            <a:ext cx="717840" cy="177876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6" name="Straight Arrow Connector 8"/>
          <p:cNvCxnSpPr/>
          <p:nvPr/>
        </p:nvCxnSpPr>
        <p:spPr>
          <a:xfrm>
            <a:off x="3263400" y="3555720"/>
            <a:ext cx="546480" cy="71172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9"/>
          <p:cNvCxnSpPr/>
          <p:nvPr/>
        </p:nvCxnSpPr>
        <p:spPr>
          <a:xfrm flipH="1">
            <a:off x="1447560" y="3403440"/>
            <a:ext cx="1543680" cy="61056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Straight Arrow Connector 12"/>
          <p:cNvCxnSpPr/>
          <p:nvPr/>
        </p:nvCxnSpPr>
        <p:spPr>
          <a:xfrm flipH="1">
            <a:off x="2640960" y="5105520"/>
            <a:ext cx="826200" cy="305280"/>
          </a:xfrm>
          <a:prstGeom prst="straightConnector1">
            <a:avLst/>
          </a:prstGeom>
          <a:ln w="25560">
            <a:solidFill>
              <a:srgbClr val="3c8c93"/>
            </a:solidFill>
            <a:miter/>
            <a:headEnd len="med" type="arrow" w="med"/>
            <a:tailEnd len="med" type="arrow" w="med"/>
          </a:ln>
        </p:spPr>
      </p:cxnSp>
      <p:sp>
        <p:nvSpPr>
          <p:cNvPr id="149" name="TextBox 15"/>
          <p:cNvSpPr/>
          <p:nvPr/>
        </p:nvSpPr>
        <p:spPr>
          <a:xfrm>
            <a:off x="5384880" y="3911760"/>
            <a:ext cx="18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talk learning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ining student inte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8600" y="1600200"/>
            <a:ext cx="7556400" cy="4525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ways might you describe these students’ convers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their discussion has been facilita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67080" y="4624560"/>
            <a:ext cx="4572000" cy="933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ca9"/>
                </a:solidFill>
                <a:latin typeface="Arial"/>
              </a:rPr>
              <a:t>Reflection:  Our assessment place in the world</a:t>
            </a:r>
            <a:endParaRPr b="0" lang="en-US" sz="25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343400" y="548604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(An a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7" descr="DSCN2196.JPG"/>
          <p:cNvPicPr/>
          <p:nvPr/>
        </p:nvPicPr>
        <p:blipFill>
          <a:blip r:embed="rId1"/>
          <a:srcRect l="12157" t="0" r="12157" b="0"/>
          <a:stretch/>
        </p:blipFill>
        <p:spPr>
          <a:xfrm>
            <a:off x="4624560" y="228600"/>
            <a:ext cx="2057400" cy="2038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Placeholder 14" descr="DSCN2146.JPG"/>
          <p:cNvPicPr/>
          <p:nvPr/>
        </p:nvPicPr>
        <p:blipFill>
          <a:blip r:embed="rId2"/>
          <a:srcRect l="0" t="12848" r="0" b="12848"/>
          <a:stretch/>
        </p:blipFill>
        <p:spPr>
          <a:xfrm>
            <a:off x="6802560" y="237816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56800" y="1779120"/>
            <a:ext cx="308628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DSCN2259.JPG"/>
          <p:cNvPicPr/>
          <p:nvPr/>
        </p:nvPicPr>
        <p:blipFill>
          <a:blip r:embed="rId3"/>
          <a:stretch/>
        </p:blipFill>
        <p:spPr>
          <a:xfrm>
            <a:off x="533520" y="129528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9036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roviding question stems to students to promote student interaction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22860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 you use . . 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de you think to star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diagram (graph, model, etc.) help you solve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Descriptive feedbac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98600" y="1346040"/>
            <a:ext cx="7556400" cy="3911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pecific qualities of the work in relation to th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bservations about students' learning processes and strategies that will help them figure out how to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student self-efficacy by drawing connections between students' work and their mindful, intentional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person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5720760" y="533412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(Brookhart,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Foc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ask, process, self-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Compari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riterion-referenced, self-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ptive, naming weaknesses or strengths in terms of criteria, suggests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8c93"/>
                </a:solidFill>
                <a:latin typeface="Arial"/>
              </a:rPr>
              <a:t>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ositive, open, seek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510-9838-47BB-8609-34EF8BB70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8C7-AD04-4D89-89BD-57592C894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371600"/>
          <a:ext cx="8229600" cy="4033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, rather than . . 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explanation might not convince a reader that your solution is correct. What else could you do to explain your thinking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detail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solution is organized in such a way that it is very easy to follow your thinkin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 job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clear from the way you connected the diagram to the equation that you understand the algebra that you are using to solve the probl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the best solution in the class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Now you try i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your neighbour and provide some descriptive feedback about something they did, or an experience that you had so far at Math Campp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2399-08C4-4A75-A64C-5FC5C295CD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18960" y="274284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Placeholder 13" descr="uqi-persimmons.jpg">
            <a:hlinkClick r:id="rId1"/>
          </p:cNvPr>
          <p:cNvPicPr/>
          <p:nvPr/>
        </p:nvPicPr>
        <p:blipFill>
          <a:blip r:embed="rId2"/>
          <a:srcRect l="5410" t="0" r="5410" b="0"/>
          <a:stretch/>
        </p:blipFill>
        <p:spPr>
          <a:xfrm>
            <a:off x="5486400" y="685800"/>
            <a:ext cx="316404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3600"/>
            <a:ext cx="8177040" cy="1031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formative assessmen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268280"/>
            <a:ext cx="8250120" cy="4857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dicates that the use of formative assessment practices enhances student achievement and creates a classroom culture of success (Black &amp; Wiliam, 1998; Brookhart, 2001; Gipps, 1994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ormative assessment both teachers and students have a voice in the assessment process and students develop responsibility for their learning (Arter, 2003; McMillan,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3600"/>
            <a:ext cx="8177040" cy="1031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y formative assessment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4920" y="1574280"/>
            <a:ext cx="8250120" cy="4086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 helps all students b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ularly low achieve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us it helps to close the gap while raising achievement overall (Black &amp; Wiliam, 199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321840"/>
            <a:ext cx="7669440" cy="73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ms of formative assess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1600200"/>
            <a:ext cx="8158320" cy="5106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and feedback on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v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ing, listening and respo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8250120" cy="1606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2133720"/>
            <a:ext cx="8105760" cy="3992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in twos or threes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 of formative assessment in your cont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B7B0-7003-48DB-980C-F8EE91442976}" type="slidenum">
              <a:rPr b="0" lang="en-US" sz="1400" spc="-1" strike="noStrike">
                <a:solidFill>
                  <a:srgbClr val="000000"/>
                </a:solidFill>
                <a:latin typeface="Perpetu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7467480" cy="78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  <a:ea typeface="MS PGothic"/>
              </a:rPr>
              <a:t>Focus on Questioning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38040" indent="-338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 provoke students’ reasoning about mathematics through the tasks they provide and the questions they ask (NCTM, 199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king questions that reveal students’ knowledge about mathematics allows teachers to design instruction that responds to and builds on this knowledge (NCTM, 20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re one of the only tools teachers have for finding out what students are thinking (Michaels, 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AD1-9FD5-40E4-B625-127636D9D0A2}" type="slidenum">
              <a:rPr b="0" lang="en-US" sz="1400" spc="-1" strike="noStrike">
                <a:solidFill>
                  <a:srgbClr val="000000"/>
                </a:solidFill>
                <a:latin typeface="Perpetua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7467480" cy="78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ca9"/>
                </a:solidFill>
                <a:latin typeface="Arial"/>
                <a:ea typeface="MS PGothic"/>
              </a:rPr>
              <a:t>Why Focus on Questioning?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33440"/>
            <a:ext cx="7848720" cy="422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3611"/>
                </a:solidFill>
                <a:latin typeface="Arial"/>
                <a:ea typeface="Times New Roman"/>
              </a:rPr>
              <a:t>Teachers’ questions are crucial in helping students make connections and learn important mathematics and science concepts.</a:t>
            </a:r>
            <a:r>
              <a:rPr b="0" lang="en-US" sz="24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s need to know how students typically think about particular concepts, how to determine what a particular student or group of students’ thinks about those ideas, and how to help students deepen their understanding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iss &amp; Pasley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ypes of questioning &gt; listen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1854360"/>
            <a:ext cx="3620880" cy="3403440"/>
          </a:xfrm>
          <a:prstGeom prst="rect">
            <a:avLst/>
          </a:prstGeom>
          <a:solidFill>
            <a:srgbClr val="b3b3b3"/>
          </a:solidFill>
          <a:ln w="12600">
            <a:solidFill>
              <a:srgbClr val="bfbfb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to see if they hav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2 plus 3 i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what step comes nex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43400" y="1854360"/>
            <a:ext cx="4051440" cy="33271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to understand their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know it’s 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you think the answer is 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8600" y="1438200"/>
            <a:ext cx="3657600" cy="3240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lIns="50760" tIns="50760" bIns="5076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00280" y="1438200"/>
            <a:ext cx="3994200" cy="32400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txBody>
          <a:bodyPr lIns="50760" tIns="50760" bIns="5076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5722200" y="51814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vis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s.yearley</cp:lastModifiedBy>
  <dcterms:modified xsi:type="dcterms:W3CDTF">2012-08-22T13:26:18Z</dcterms:modified>
  <cp:revision>19</cp:revision>
  <dc:subject/>
  <dc:title>&lt;Title&gt;</dc:title>
</cp:coreProperties>
</file>